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32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5.jpeg" ContentType="image/jpeg"/>
  <Override PartName="/ppt/media/image35.png" ContentType="image/png"/>
  <Override PartName="/ppt/media/image9.jpeg" ContentType="image/jpeg"/>
  <Override PartName="/ppt/media/image3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25.wmf" ContentType="image/x-wmf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934200" cy="9234488"/>
  <p:custShowLst>
    <p:custShow name="DM Summit 2012-01" id="0">
      <p:sldLst>
        <p:sld r:id="rId15"/>
        <p:sld r:id="rId16"/>
        <p:sld r:id="rId17"/>
        <p:sld r:id="rId20"/>
      </p:sldLst>
    </p:custShow>
    <p:custShow name="TPIO 2012-02-02" id="1">
      <p:sldLst>
        <p:sld r:id="rId15"/>
        <p:sld r:id="rId16"/>
        <p:sld r:id="rId18"/>
        <p:sld r:id="rId19"/>
        <p:sld r:id="rId20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8E2-A343-4FE7-896D-817E1982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068-2D09-4168-ABC0-7542DE64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: All NOAA data will be discoverable, accessible, documented, and preserved for all types of users and appl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D99C-9142-4876-9AA5-73B04484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urpose: The purpose of this slide is to highlight the role and operating philosophy of the EDM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B = Science Advisory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ARWG = Data Archiving and Access Requirements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DMC was created as an evolution from the previously existing Data Management Committee (DM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mary rationale for the creation of the EDMC was to expand the scope from looking only at archive and preservation issues to the end-to-end lifecycle of environmental data manag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gnificant change from the previous Data Management Committee (DMC) structure is that the EDMC reports to both the NOSC and the CIO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working collaboratively with other CIO Council Committ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GIS and Enterprise Architecture Committ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9E8E-1740-4775-A243-8B7522F9E9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agram indicates where NOAA EDMC Procedural Directives (PDs) app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2E48-6223-473A-AB26-EFE1E1F5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D70-711C-45CB-B2BD-185FBD06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539-4313-4139-A1FE-E8BA0A3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6A767-EAEF-4333-A173-AADA5BF9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D347F-A68B-43B2-A277-36FD2B6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B7B1F-AF7A-41ED-9DD2-582146C8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45356-8498-4AA0-96E7-0D2A9B9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5049D-8390-4A00-8C15-C8F1D5A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E77D4-814D-41F5-BD89-38FC8F4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6050-E38E-4A3D-A3F3-4869DCF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DA6BE-2F35-48CA-BEE7-A950C6FF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81EF8-4CBB-4814-913D-DA207B3B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B7B7-24E4-431F-9B91-E61C7925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D56-AAF9-4BFE-ABC9-4C4A8D75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5F7D3-750F-481F-A2D4-77CB585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21715-380B-4E3C-8527-F45B7E7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70F0C-CAED-4F3C-B40C-5E669AA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FF61-7687-4688-AB7B-47B69860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46885-AC44-4BC7-A956-56587DA6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846A6-A124-4E9B-9B21-94E3441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FA809-7D2B-49FD-9FC0-3F057484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12224-99F1-49E3-A239-4F11DB9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F69A1-190D-445D-8CC6-DABE796C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10291-C33D-4837-9734-6C69F181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B95-3BE0-46BD-BE3D-C0AB449F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43FB8-AAAF-437F-BA3E-ED667C69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4603F-D2A6-49BF-BCEF-06C47083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64590-0B23-4E46-B817-566400A3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12991-EA20-4823-B6A3-9F69A139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C7DB-3B6D-45BE-A263-D50085E5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E539C-8289-401D-A807-64E0BB8F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5B5C9-7A20-441A-AAE7-5F2A3CBC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C5D5-D287-4EFB-AF84-0D8C85AB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44208-AAA8-4133-8641-E8EEF0FB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1DE40-BF7B-45B0-B194-8F1EFA82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D549-A6F3-4404-A01D-6A39671E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5D58-A317-4663-BC43-32C59546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1664-FDDD-4F9A-B297-B652433C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4FB72-13E9-439D-8DE8-43F39F0E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A3C21-56A4-4812-BF8D-5B4B2D00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BC403-2151-42B8-B2EC-86C4516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A022C-3D96-44C6-B564-C2A65765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92181-A66C-4D25-86DF-BE732392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23ACA-9436-43E2-AD16-269BCFC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CCF34-321B-4164-9989-0BB126BF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8B789-CAA5-4978-9806-E4185B4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ACC-4DA6-4150-A2B7-E7DD52BD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C8720-A9D9-4A8A-BB5C-163DB05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CC1CA-34A1-4763-A1E6-B534BEE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28902-CFE7-4D66-8662-79780924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FAC60-61C4-40DF-B6DE-9FA37059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24B72-E52F-4E61-A333-4CF43A0A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930-EE35-492B-8C9A-E88175FC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6E5E-EF9B-4DB0-B957-F540CC14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A5E-5B8E-4279-854C-6CD97CAD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B6D-5837-48C5-8422-FB33B887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CB5C-ABFE-41FA-BC62-A8A1D06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44F-CA7A-4CBF-B580-A2A55166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E51-491F-4A07-B6A7-3837FB5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0A55-DCB5-4B8E-A2CB-AD7E7EE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150F-4CE2-43C8-8790-B6463B9E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6F42-7FF7-40A0-909B-BCAC8A1C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5B0C-B57F-486B-8F47-DF386C59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F4E3-4838-4DEF-8F5E-13008CBD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3418-7DFE-4692-B137-F5A19A4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29BC-FCD4-453F-A67E-8D12FE4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8DD9D-3A22-4848-A12B-F4243E29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DBCD-8907-49C0-98DC-E43414F4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1BC-74D7-4782-A41D-BA87A27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7278-C298-4415-B432-CF0ABD1F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6759-F42B-4F71-914C-CB3BB2B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7D77-0487-469E-9C07-9596F4D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5542-7CD6-4D4B-8B76-11F9D1B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B162-7DA4-41A3-AF61-89D75FBE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81A3-87ED-4CE8-A974-AB3E7188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52FE-CD98-4F45-AFA4-64541E91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9B6D9-C342-4060-A3C0-6EB5E582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98F0-EB42-4D90-93F0-04553C1D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610B-6380-4200-8DDB-A2C61342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0CD-652B-4282-AA2C-537E1C1F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BFCE8-90D6-4478-A632-2115B01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FD2A-89F7-4150-AAF7-DC076EB4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469A-9016-4BA3-875F-3B383D54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D4CE-9233-43D2-88A5-BE153B8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FBBF-A5A5-4685-9421-2295A7D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7C3C-EDA6-4728-A54D-33C62CE8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30F1-97C3-4F05-8A1B-BD0B651E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E9342-EDF3-4954-9E8D-96B924C3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CC04-D69F-445C-A861-E05DF525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0661-1B80-481F-A960-40AC5FA8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EC2-6961-4F16-A9CD-B5F4886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4EBB-636D-48D0-9187-5F1B80D6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521E-2291-4B43-B97A-E0E2A27A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32E0B-7E38-4860-966E-011B060B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F8A3E-D68A-4B9F-8E20-ED5677AD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C98E-0EB3-4AAB-BD64-8C4EFA0B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BE8B-926C-4A9F-B0B9-4D927BE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7DD0-2A00-47AA-8516-A7ED464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5DD2-4611-4A61-8145-ABEB8E1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11D4-8E7A-442F-8F65-DD218A94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21A1-4B78-4831-8B97-1E57CD4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F5B-42F7-4E86-BAAC-1C99DC4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6F6A-785D-4694-86B2-43E0F51C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B754E-C186-4C98-A7FC-D4B68BDB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E5F7A-3D94-4CBF-AA3B-8A1A40D0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769CD-55C7-4728-99D6-04179A2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06F5-C06E-4F93-87DE-9DA891A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836E-A9C2-4356-9CE1-03B765F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2DEC-6841-4C1E-A6C5-4A4EE687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1DDA-8C9A-41DC-AC9F-2F283F7B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8084-6C5A-484B-91FC-56FD06DE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CD30-D9D8-4E74-810B-E4602A8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B5B-7746-493D-9324-F8703BB1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CD718-742F-45BD-88BD-07F46022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DDF07-D631-4041-9901-02931936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702F5-D933-428A-A7E7-2C1B75C9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1C8B-93CF-4318-BF82-1A89C36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3D6CC-65A9-42BB-92CF-017B445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BB3C-2555-48AA-9452-FE1049F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C7D5-3A1C-48F1-9962-E0BF744C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D19D9-849A-44EF-B731-9F341235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2B396-AA94-4FCB-ACBE-AC7D9935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5FCDE-F0DA-4579-9DC0-50B3DB8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421-F07A-4BE8-A1A3-585FD87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C124D-CF37-4005-AD3E-9206CF22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0A158-B1BE-46FE-AFAF-D64B4E4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CDA8-3E0B-4A50-B690-F6A5325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9960-6E6D-4254-A904-A898E250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99438-2F1F-45E9-A62B-7FCD042B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85D2-8B2A-4545-BC42-9DE4B81A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12476-AEDE-4E9A-9210-DE3CBB82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DB84-9AC0-4120-986F-8A85E80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5893-08F5-48E3-A099-8E272FD0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77656-2ADB-44A4-9DF1-0C759F5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3E9-9B5E-416D-B66C-C752288A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6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BAD8-683E-455B-8647-6D31C54C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610AF-CE04-4A87-854A-A4D7837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3215A-67C9-4F97-BB78-208F30C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466BC-0315-424F-8EBC-5072AB0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8316-864B-4E7D-8A0E-AE8103E6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90F3-8541-4755-8533-A68587B0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79590-8A9C-4B16-A957-206C70FA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ACFB8-8C70-46B3-ACDD-41EC5DE0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FA7C2-CBDC-4A03-A5E0-85922D8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C7F14-8B0B-470A-ADAA-D088A10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9005DE-F705-4398-A9E5-36901747D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5C58-0C13-4B92-9755-B97713243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6B21-DD9D-48E8-8F44-5710C60D7E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CD5-3002-4E25-925B-E23DEBFFA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3A2D-B2AB-42DE-8396-0A7BAD146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DF11-FC4D-48E0-A093-DFD2A7906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166-3BAB-44B0-9DFD-7633DF50E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3E0F-4811-459F-8716-EFFFA4A2A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561-61BB-4943-B6C4-326B241F6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5EC-399E-4CC5-870A-DE8AFD5FB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B92-5B35-4A4B-87A2-68888791EB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DA18-9AE2-43BB-9A5D-B7BEB3FB0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06C-A96D-4BDD-A42C-0C47D5BEB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ED6-9C82-4D5D-99E9-6108353EE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D6A2-880E-4114-B94A-BE1CCF98B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535-EFF5-4434-ADCF-F052166AE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ACCF-AA83-4573-83EA-A557429F9C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C627-3D9C-4525-BAD9-71576CD7A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DE0C-4E49-4923-820B-EE2E529D4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5D24-3F1B-4555-8F4D-E105547DE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EE3-D929-4B4F-BF98-1E2CA72617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686-0265-4D23-A520-6ABEB867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8938080" y="4495680"/>
            <a:ext cx="18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8947080" y="5257800"/>
            <a:ext cx="184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989B-4C63-4287-93C2-3DAD68FCC7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8934480" y="1933200"/>
            <a:ext cx="185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 vert="eaVer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937360" y="6657840"/>
            <a:ext cx="18252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714-C87E-4DD1-AC3F-018CB3564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nosc.noaa.gov/EDMC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image" Target="../media/image25.wmf"/><Relationship Id="rId26" Type="http://schemas.openxmlformats.org/officeDocument/2006/relationships/slideLayout" Target="../slideLayouts/slideLayout73.xml"/><Relationship Id="rId2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7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MC Procedural Dir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42640" y="4419360"/>
            <a:ext cx="70102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AA Environmental Data Management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nosc.noaa.gov/EDMC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733E-E03B-4EE1-8C6F-4F36EE8D6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0427-DC5B-4E57-A17D-67EA8A337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5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Sharing Policy for NOAA 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s that data collected or created under a NOAA Grant or Cooperative Agreement be made available to the publ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a timely manner, and within 2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s for legal, policy or security reas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exibility for funding program manager to adjust or negot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ant proposals must include data sharing pla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lan will be made public upon awarding of gr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ailure to share data will be considered in future proposal evalu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9F34-9E6E-4CDB-AC1D-C2BFE0EAD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3D3A-8A5A-48E8-AE59-EECBB048B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dtd.gov.gif"/>
          <p:cNvPicPr/>
          <p:nvPr/>
        </p:nvPicPr>
        <p:blipFill>
          <a:blip r:embed="rId1"/>
          <a:stretch/>
        </p:blipFill>
        <p:spPr>
          <a:xfrm>
            <a:off x="6242040" y="3929040"/>
            <a:ext cx="2028960" cy="1279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5" descr="GoogleEarth screenshot.jpg"/>
          <p:cNvPicPr/>
          <p:nvPr/>
        </p:nvPicPr>
        <p:blipFill>
          <a:blip r:embed="rId2"/>
          <a:stretch/>
        </p:blipFill>
        <p:spPr>
          <a:xfrm>
            <a:off x="6242040" y="222120"/>
            <a:ext cx="2102040" cy="1281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"/>
          <p:cNvPicPr/>
          <p:nvPr/>
        </p:nvPicPr>
        <p:blipFill>
          <a:blip r:embed="rId3"/>
          <a:stretch/>
        </p:blipFill>
        <p:spPr>
          <a:xfrm>
            <a:off x="6242040" y="603360"/>
            <a:ext cx="1778040" cy="1280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9" descr="ERDDAP screenshot.jpg"/>
          <p:cNvPicPr/>
          <p:nvPr/>
        </p:nvPicPr>
        <p:blipFill>
          <a:blip r:embed="rId4"/>
          <a:stretch/>
        </p:blipFill>
        <p:spPr>
          <a:xfrm>
            <a:off x="6242040" y="907920"/>
            <a:ext cx="1792440" cy="12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2" descr="Ferret screenshot.jpg"/>
          <p:cNvPicPr/>
          <p:nvPr/>
        </p:nvPicPr>
        <p:blipFill>
          <a:blip r:embed="rId5"/>
          <a:stretch/>
        </p:blipFill>
        <p:spPr>
          <a:xfrm>
            <a:off x="6242040" y="1212840"/>
            <a:ext cx="2017800" cy="12812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3" descr="nmfs_InPort_screenshot_sm.JPG"/>
          <p:cNvPicPr/>
          <p:nvPr/>
        </p:nvPicPr>
        <p:blipFill>
          <a:blip r:embed="rId6"/>
          <a:srcRect l="0" t="8261" r="16356" b="20653"/>
          <a:stretch/>
        </p:blipFill>
        <p:spPr>
          <a:xfrm>
            <a:off x="6242040" y="1822320"/>
            <a:ext cx="1935000" cy="1281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"/>
          <p:cNvPicPr/>
          <p:nvPr/>
        </p:nvPicPr>
        <p:blipFill>
          <a:blip r:embed="rId7"/>
          <a:stretch/>
        </p:blipFill>
        <p:spPr>
          <a:xfrm>
            <a:off x="6242040" y="2203560"/>
            <a:ext cx="1986120" cy="12808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Climatepage.jpg"/>
          <p:cNvPicPr/>
          <p:nvPr/>
        </p:nvPicPr>
        <p:blipFill>
          <a:blip r:embed="rId8"/>
          <a:stretch/>
        </p:blipFill>
        <p:spPr>
          <a:xfrm>
            <a:off x="6242040" y="2813040"/>
            <a:ext cx="2103480" cy="12812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NIDISpage.jpg"/>
          <p:cNvPicPr/>
          <p:nvPr/>
        </p:nvPicPr>
        <p:blipFill>
          <a:blip r:embed="rId9"/>
          <a:stretch/>
        </p:blipFill>
        <p:spPr>
          <a:xfrm>
            <a:off x="6242040" y="3193920"/>
            <a:ext cx="1881360" cy="128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10"/>
          <a:stretch/>
        </p:blipFill>
        <p:spPr>
          <a:xfrm>
            <a:off x="6242040" y="3575160"/>
            <a:ext cx="1990800" cy="128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7" descr="GEOSS Portal screenshot.jpg"/>
          <p:cNvPicPr/>
          <p:nvPr/>
        </p:nvPicPr>
        <p:blipFill>
          <a:blip r:embed="rId11"/>
          <a:stretch/>
        </p:blipFill>
        <p:spPr>
          <a:xfrm>
            <a:off x="6242040" y="3956040"/>
            <a:ext cx="2030400" cy="1281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"/>
          <p:cNvPicPr/>
          <p:nvPr/>
        </p:nvPicPr>
        <p:blipFill>
          <a:blip r:embed="rId12"/>
          <a:srcRect l="28002" t="0" r="28002" b="49409"/>
          <a:stretch/>
        </p:blipFill>
        <p:spPr>
          <a:xfrm>
            <a:off x="6242040" y="4322880"/>
            <a:ext cx="1979640" cy="1279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3" descr="ArcExplorer.png"/>
          <p:cNvPicPr/>
          <p:nvPr/>
        </p:nvPicPr>
        <p:blipFill>
          <a:blip r:embed="rId13"/>
          <a:stretch/>
        </p:blipFill>
        <p:spPr>
          <a:xfrm>
            <a:off x="6242040" y="4870440"/>
            <a:ext cx="2011320" cy="14828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47"/>
          <p:cNvSpPr/>
          <p:nvPr/>
        </p:nvSpPr>
        <p:spPr>
          <a:xfrm>
            <a:off x="4113360" y="762120"/>
            <a:ext cx="2135160" cy="6095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8" descr="next-generation-weather-satellite-goes-o.jpg"/>
          <p:cNvPicPr/>
          <p:nvPr/>
        </p:nvPicPr>
        <p:blipFill>
          <a:blip r:embed="rId14"/>
          <a:srcRect l="7114" t="0" r="14665" b="0"/>
          <a:stretch/>
        </p:blipFill>
        <p:spPr>
          <a:xfrm>
            <a:off x="762120" y="1131840"/>
            <a:ext cx="3352680" cy="476244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sion for NOAA 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5"/>
          <a:stretch/>
        </p:blipFill>
        <p:spPr>
          <a:xfrm>
            <a:off x="3198960" y="5257800"/>
            <a:ext cx="915840" cy="1371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16"/>
          <a:stretch/>
        </p:blipFill>
        <p:spPr>
          <a:xfrm>
            <a:off x="685800" y="4648320"/>
            <a:ext cx="1425600" cy="1225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6" descr="MaxT1_northeast.png"/>
          <p:cNvPicPr/>
          <p:nvPr/>
        </p:nvPicPr>
        <p:blipFill>
          <a:blip r:embed="rId17"/>
          <a:srcRect l="0" t="3947" r="0" b="10524"/>
          <a:stretch/>
        </p:blipFill>
        <p:spPr>
          <a:xfrm>
            <a:off x="2057400" y="556272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2" descr="weatherradar650.jpg"/>
          <p:cNvPicPr/>
          <p:nvPr/>
        </p:nvPicPr>
        <p:blipFill>
          <a:blip r:embed="rId18"/>
          <a:stretch/>
        </p:blipFill>
        <p:spPr>
          <a:xfrm>
            <a:off x="2733840" y="106668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4" descr="Teledyne_Webb_Slocum_Glider_2011-03-15_ver_0-01.jpg"/>
          <p:cNvPicPr/>
          <p:nvPr/>
        </p:nvPicPr>
        <p:blipFill>
          <a:blip r:embed="rId19"/>
          <a:stretch/>
        </p:blipFill>
        <p:spPr>
          <a:xfrm>
            <a:off x="609480" y="586728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5" descr="Sidescan_Nav-O.png"/>
          <p:cNvPicPr/>
          <p:nvPr/>
        </p:nvPicPr>
        <p:blipFill>
          <a:blip r:embed="rId20"/>
          <a:stretch/>
        </p:blipFill>
        <p:spPr>
          <a:xfrm>
            <a:off x="2430360" y="3505320"/>
            <a:ext cx="1684440" cy="1371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3" descr="MarineMammalTag.jpg"/>
          <p:cNvPicPr/>
          <p:nvPr/>
        </p:nvPicPr>
        <p:blipFill>
          <a:blip r:embed="rId21"/>
          <a:stretch/>
        </p:blipFill>
        <p:spPr>
          <a:xfrm>
            <a:off x="685800" y="3505320"/>
            <a:ext cx="1371600" cy="979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Documents and Settings\jdelabea\Local Settings\Temporary Internet Files\Content.IE5\1EYTWK7O\MC900431643[1].png"/>
          <p:cNvPicPr/>
          <p:nvPr/>
        </p:nvPicPr>
        <p:blipFill>
          <a:blip r:embed="rId22"/>
          <a:srcRect l="8881" t="4451" r="6676" b="6676"/>
          <a:stretch/>
        </p:blipFill>
        <p:spPr>
          <a:xfrm>
            <a:off x="4383000" y="1057320"/>
            <a:ext cx="1130400" cy="1189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8" descr="NCDC_building.jpg"/>
          <p:cNvPicPr/>
          <p:nvPr/>
        </p:nvPicPr>
        <p:blipFill>
          <a:blip r:embed="rId23"/>
          <a:stretch/>
        </p:blipFill>
        <p:spPr>
          <a:xfrm>
            <a:off x="4383000" y="5745240"/>
            <a:ext cx="1676520" cy="1189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C:\Documents and Settings\jdelabea\Local Settings\Temporary Internet Files\Content.IE5\1EYTWK7O\MC900432599[1].png"/>
          <p:cNvPicPr/>
          <p:nvPr/>
        </p:nvPicPr>
        <p:blipFill>
          <a:blip r:embed="rId24"/>
          <a:srcRect l="16677" t="4174" r="16657" b="12483"/>
          <a:stretch/>
        </p:blipFill>
        <p:spPr>
          <a:xfrm>
            <a:off x="4383000" y="4095720"/>
            <a:ext cx="951120" cy="1189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C:\Documents and Settings\jdelabea\Local Settings\Temporary Internet Files\Content.IE5\MHX77F5D\MC900056607[1].wmf"/>
          <p:cNvPicPr/>
          <p:nvPr/>
        </p:nvPicPr>
        <p:blipFill>
          <a:blip r:embed="rId25"/>
          <a:stretch/>
        </p:blipFill>
        <p:spPr>
          <a:xfrm>
            <a:off x="4435560" y="2620800"/>
            <a:ext cx="1660320" cy="1189080"/>
          </a:xfrm>
          <a:prstGeom prst="rect">
            <a:avLst/>
          </a:prstGeom>
          <a:ln w="0">
            <a:noFill/>
          </a:ln>
        </p:spPr>
      </p:pic>
      <p:sp>
        <p:nvSpPr>
          <p:cNvPr id="544" name="Date Placeholder 2"/>
          <p:cNvSpPr/>
          <p:nvPr/>
        </p:nvSpPr>
        <p:spPr>
          <a:xfrm>
            <a:off x="8947800" y="541008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6EC-D377-45B3-B1CF-2626FE4AFA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705520" y="65980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4BE-2479-430F-B637-005387C88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6"/>
          <p:cNvSpPr/>
          <p:nvPr/>
        </p:nvSpPr>
        <p:spPr>
          <a:xfrm>
            <a:off x="1531800" y="762120"/>
            <a:ext cx="25840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NOAA data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51"/>
          <p:cNvSpPr/>
          <p:nvPr/>
        </p:nvSpPr>
        <p:spPr>
          <a:xfrm>
            <a:off x="6248520" y="6221520"/>
            <a:ext cx="259056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ll types of users an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Rounded Rectangle 8"/>
          <p:cNvGrpSpPr/>
          <p:nvPr/>
        </p:nvGrpSpPr>
        <p:grpSpPr>
          <a:xfrm>
            <a:off x="3943440" y="804960"/>
            <a:ext cx="1871640" cy="852480"/>
            <a:chOff x="3943440" y="804960"/>
            <a:chExt cx="1871640" cy="852480"/>
          </a:xfrm>
        </p:grpSpPr>
        <p:pic>
          <p:nvPicPr>
            <p:cNvPr id="549" name="Rounded Rectangle 8" descr=""/>
            <p:cNvPicPr/>
            <p:nvPr/>
          </p:nvPicPr>
          <p:blipFill>
            <a:blip r:embed="rId1"/>
            <a:stretch/>
          </p:blipFill>
          <p:spPr>
            <a:xfrm>
              <a:off x="3943440" y="804960"/>
              <a:ext cx="18716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4041720" y="874800"/>
              <a:ext cx="16826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NOA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Rounded Rectangle 10"/>
          <p:cNvGrpSpPr/>
          <p:nvPr/>
        </p:nvGrpSpPr>
        <p:grpSpPr>
          <a:xfrm>
            <a:off x="1695600" y="3833640"/>
            <a:ext cx="2931840" cy="1390680"/>
            <a:chOff x="1695600" y="3833640"/>
            <a:chExt cx="2931840" cy="1390680"/>
          </a:xfrm>
        </p:grpSpPr>
        <p:pic>
          <p:nvPicPr>
            <p:cNvPr id="55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1695600" y="3833640"/>
              <a:ext cx="293184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809720" y="4019400"/>
              <a:ext cx="270504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DM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vironmental Data Management 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(1 voting rep per L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Rounded Rectangle 11"/>
          <p:cNvGrpSpPr/>
          <p:nvPr/>
        </p:nvGrpSpPr>
        <p:grpSpPr>
          <a:xfrm>
            <a:off x="4896000" y="2000160"/>
            <a:ext cx="2492280" cy="1114560"/>
            <a:chOff x="4896000" y="2000160"/>
            <a:chExt cx="2492280" cy="1114560"/>
          </a:xfrm>
        </p:grpSpPr>
        <p:pic>
          <p:nvPicPr>
            <p:cNvPr id="555" name="Rounded Rectangle 11" descr=""/>
            <p:cNvPicPr/>
            <p:nvPr/>
          </p:nvPicPr>
          <p:blipFill>
            <a:blip r:embed="rId3"/>
            <a:stretch/>
          </p:blipFill>
          <p:spPr>
            <a:xfrm>
              <a:off x="4896000" y="2000160"/>
              <a:ext cx="24922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5000760" y="2168640"/>
              <a:ext cx="2288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O Counc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ief Information Officer Cou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Rounded Rectangle 12"/>
          <p:cNvGrpSpPr/>
          <p:nvPr/>
        </p:nvGrpSpPr>
        <p:grpSpPr>
          <a:xfrm>
            <a:off x="2225520" y="2000160"/>
            <a:ext cx="2249640" cy="1114560"/>
            <a:chOff x="2225520" y="2000160"/>
            <a:chExt cx="2249640" cy="1114560"/>
          </a:xfrm>
        </p:grpSpPr>
        <p:pic>
          <p:nvPicPr>
            <p:cNvPr id="558" name="Rounded Rectangle 12" descr=""/>
            <p:cNvPicPr/>
            <p:nvPr/>
          </p:nvPicPr>
          <p:blipFill>
            <a:blip r:embed="rId4"/>
            <a:stretch/>
          </p:blipFill>
          <p:spPr>
            <a:xfrm>
              <a:off x="2225520" y="2000160"/>
              <a:ext cx="22496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2330280" y="2168640"/>
              <a:ext cx="204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NO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AA Observing System Cou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Rounded Rectangle 14"/>
          <p:cNvGrpSpPr/>
          <p:nvPr/>
        </p:nvGrpSpPr>
        <p:grpSpPr>
          <a:xfrm>
            <a:off x="1695600" y="5467320"/>
            <a:ext cx="3084480" cy="1390680"/>
            <a:chOff x="1695600" y="5467320"/>
            <a:chExt cx="3084480" cy="1390680"/>
          </a:xfrm>
        </p:grpSpPr>
        <p:pic>
          <p:nvPicPr>
            <p:cNvPr id="561" name="Rounded Rectangle 14" descr=""/>
            <p:cNvPicPr/>
            <p:nvPr/>
          </p:nvPicPr>
          <p:blipFill>
            <a:blip r:embed="rId5"/>
            <a:stretch/>
          </p:blipFill>
          <p:spPr>
            <a:xfrm>
              <a:off x="1695600" y="5467320"/>
              <a:ext cx="30844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1811160" y="5651640"/>
              <a:ext cx="28544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M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ata Management Integration 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(50 members across NOA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DMC Relation to Other NOAA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F9B9-4B14-43BD-83B1-3849C2618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Rounded Rectangle 24"/>
          <p:cNvGrpSpPr/>
          <p:nvPr/>
        </p:nvGrpSpPr>
        <p:grpSpPr>
          <a:xfrm>
            <a:off x="5200560" y="4071960"/>
            <a:ext cx="1638360" cy="957240"/>
            <a:chOff x="5200560" y="4071960"/>
            <a:chExt cx="1638360" cy="957240"/>
          </a:xfrm>
        </p:grpSpPr>
        <p:pic>
          <p:nvPicPr>
            <p:cNvPr id="566" name="Rounded Rectangle 24" descr=""/>
            <p:cNvPicPr/>
            <p:nvPr/>
          </p:nvPicPr>
          <p:blipFill>
            <a:blip r:embed="rId6"/>
            <a:stretch/>
          </p:blipFill>
          <p:spPr>
            <a:xfrm>
              <a:off x="5200560" y="4071960"/>
              <a:ext cx="16383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299200" y="4156200"/>
              <a:ext cx="1441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G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Rounded Rectangle 27"/>
          <p:cNvGrpSpPr/>
          <p:nvPr/>
        </p:nvGrpSpPr>
        <p:grpSpPr>
          <a:xfrm>
            <a:off x="6413400" y="5450040"/>
            <a:ext cx="2559240" cy="1176120"/>
            <a:chOff x="6413400" y="5450040"/>
            <a:chExt cx="2559240" cy="1176120"/>
          </a:xfrm>
        </p:grpSpPr>
        <p:pic>
          <p:nvPicPr>
            <p:cNvPr id="569" name="Rounded Rectangle 27" descr=""/>
            <p:cNvPicPr/>
            <p:nvPr/>
          </p:nvPicPr>
          <p:blipFill>
            <a:blip r:embed="rId7"/>
            <a:stretch/>
          </p:blipFill>
          <p:spPr>
            <a:xfrm>
              <a:off x="6413400" y="5450040"/>
              <a:ext cx="2559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603840" y="5564160"/>
              <a:ext cx="218448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erprise Archite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Date Placeholder 22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B21-BC37-45FC-9DD8-0865D9BB28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23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8"/>
          <p:cNvSpPr/>
          <p:nvPr/>
        </p:nvSpPr>
        <p:spPr>
          <a:xfrm flipH="1">
            <a:off x="3352320" y="1585800"/>
            <a:ext cx="1530360" cy="53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61"/>
          <p:cNvSpPr/>
          <p:nvPr/>
        </p:nvSpPr>
        <p:spPr>
          <a:xfrm>
            <a:off x="4883040" y="1585800"/>
            <a:ext cx="1262160" cy="53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63"/>
          <p:cNvSpPr/>
          <p:nvPr/>
        </p:nvSpPr>
        <p:spPr>
          <a:xfrm flipH="1">
            <a:off x="3161880" y="3038400"/>
            <a:ext cx="190440" cy="92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65"/>
          <p:cNvSpPr/>
          <p:nvPr/>
        </p:nvSpPr>
        <p:spPr>
          <a:xfrm flipH="1">
            <a:off x="6019920" y="3038400"/>
            <a:ext cx="125280" cy="10764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68"/>
          <p:cNvSpPr/>
          <p:nvPr/>
        </p:nvSpPr>
        <p:spPr>
          <a:xfrm flipH="1" flipV="1">
            <a:off x="6145200" y="3038040"/>
            <a:ext cx="1550880" cy="2475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73"/>
          <p:cNvSpPr/>
          <p:nvPr/>
        </p:nvSpPr>
        <p:spPr>
          <a:xfrm flipV="1">
            <a:off x="3162240" y="3038040"/>
            <a:ext cx="2982960" cy="92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75"/>
          <p:cNvSpPr/>
          <p:nvPr/>
        </p:nvSpPr>
        <p:spPr>
          <a:xfrm>
            <a:off x="3162240" y="5146560"/>
            <a:ext cx="76320" cy="446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77"/>
          <p:cNvSpPr/>
          <p:nvPr/>
        </p:nvSpPr>
        <p:spPr>
          <a:xfrm flipV="1">
            <a:off x="4572000" y="4533480"/>
            <a:ext cx="685800" cy="2052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79"/>
          <p:cNvSpPr/>
          <p:nvPr/>
        </p:nvSpPr>
        <p:spPr>
          <a:xfrm>
            <a:off x="4572000" y="4554360"/>
            <a:ext cx="1981080" cy="14781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Rounded Rectangle 82"/>
          <p:cNvGrpSpPr/>
          <p:nvPr/>
        </p:nvGrpSpPr>
        <p:grpSpPr>
          <a:xfrm>
            <a:off x="92160" y="2328840"/>
            <a:ext cx="2022480" cy="1401840"/>
            <a:chOff x="92160" y="2328840"/>
            <a:chExt cx="2022480" cy="1401840"/>
          </a:xfrm>
        </p:grpSpPr>
        <p:pic>
          <p:nvPicPr>
            <p:cNvPr id="583" name="Rounded Rectangle 82" descr=""/>
            <p:cNvPicPr/>
            <p:nvPr/>
          </p:nvPicPr>
          <p:blipFill>
            <a:blip r:embed="rId8"/>
            <a:stretch/>
          </p:blipFill>
          <p:spPr>
            <a:xfrm>
              <a:off x="92160" y="2328840"/>
              <a:ext cx="20224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216000" y="2425680"/>
              <a:ext cx="177804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ARW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ata Access &amp; Archiving Requirements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Rounded Rectangle 83"/>
          <p:cNvGrpSpPr/>
          <p:nvPr/>
        </p:nvGrpSpPr>
        <p:grpSpPr>
          <a:xfrm>
            <a:off x="171360" y="669960"/>
            <a:ext cx="1943280" cy="1146240"/>
            <a:chOff x="171360" y="669960"/>
            <a:chExt cx="1943280" cy="1146240"/>
          </a:xfrm>
        </p:grpSpPr>
        <p:pic>
          <p:nvPicPr>
            <p:cNvPr id="586" name="Rounded Rectangle 83" descr=""/>
            <p:cNvPicPr/>
            <p:nvPr/>
          </p:nvPicPr>
          <p:blipFill>
            <a:blip r:embed="rId9"/>
            <a:stretch/>
          </p:blipFill>
          <p:spPr>
            <a:xfrm>
              <a:off x="171360" y="669960"/>
              <a:ext cx="1943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6120" y="809640"/>
              <a:ext cx="17337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A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cience Advisory Bo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Straight Connector 86"/>
          <p:cNvSpPr/>
          <p:nvPr/>
        </p:nvSpPr>
        <p:spPr>
          <a:xfrm flipH="1">
            <a:off x="1104840" y="1743120"/>
            <a:ext cx="38160" cy="619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89"/>
          <p:cNvSpPr/>
          <p:nvPr/>
        </p:nvSpPr>
        <p:spPr>
          <a:xfrm>
            <a:off x="1104840" y="3657600"/>
            <a:ext cx="647640" cy="89676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92"/>
          <p:cNvSpPr/>
          <p:nvPr/>
        </p:nvSpPr>
        <p:spPr>
          <a:xfrm flipV="1">
            <a:off x="2057400" y="1211400"/>
            <a:ext cx="1947960" cy="4104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proach: Policy and Imple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E123-6BA5-4575-9315-C2320E5E4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2B6F-F612-425A-975B-9FA11BF11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Down Arrow Callout 7"/>
          <p:cNvSpPr/>
          <p:nvPr/>
        </p:nvSpPr>
        <p:spPr>
          <a:xfrm>
            <a:off x="228600" y="1371600"/>
            <a:ext cx="4278240" cy="349236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D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vironmental Data Management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al Directive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policy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Up Arrow Callout 8"/>
          <p:cNvSpPr/>
          <p:nvPr/>
        </p:nvSpPr>
        <p:spPr>
          <a:xfrm>
            <a:off x="4853160" y="2236680"/>
            <a:ext cx="3941640" cy="3275280"/>
          </a:xfrm>
          <a:prstGeom prst="upArrowCallout">
            <a:avLst>
              <a:gd name="adj1" fmla="val 25007"/>
              <a:gd name="adj2" fmla="val 25005"/>
              <a:gd name="adj3" fmla="val 25000"/>
              <a:gd name="adj4" fmla="val 70041"/>
            </a:avLst>
          </a:pr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Management Integra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cal collaborations to share solutions and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9"/>
          <p:cNvSpPr/>
          <p:nvPr/>
        </p:nvSpPr>
        <p:spPr>
          <a:xfrm>
            <a:off x="1727280" y="48560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0"/>
          <p:cNvSpPr/>
          <p:nvPr/>
        </p:nvSpPr>
        <p:spPr>
          <a:xfrm>
            <a:off x="6202440" y="18763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traight Connector 15"/>
          <p:cNvSpPr/>
          <p:nvPr/>
        </p:nvSpPr>
        <p:spPr>
          <a:xfrm flipV="1">
            <a:off x="1143000" y="1066320"/>
            <a:ext cx="3390840" cy="1295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22"/>
          <p:cNvSpPr/>
          <p:nvPr/>
        </p:nvSpPr>
        <p:spPr>
          <a:xfrm flipV="1">
            <a:off x="3124080" y="1066320"/>
            <a:ext cx="140976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18"/>
          <p:cNvSpPr/>
          <p:nvPr/>
        </p:nvSpPr>
        <p:spPr>
          <a:xfrm flipV="1">
            <a:off x="4114800" y="1905120"/>
            <a:ext cx="419040" cy="3047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25"/>
          <p:cNvSpPr/>
          <p:nvPr/>
        </p:nvSpPr>
        <p:spPr>
          <a:xfrm flipH="1" flipV="1">
            <a:off x="4533480" y="1066320"/>
            <a:ext cx="83844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28"/>
          <p:cNvSpPr/>
          <p:nvPr/>
        </p:nvSpPr>
        <p:spPr>
          <a:xfrm flipH="1" flipV="1">
            <a:off x="4533840" y="1066680"/>
            <a:ext cx="2400480" cy="2268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MC Procedural Directi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nosc.noaa.gov/EDMC/nao_212-15_procedural_directives.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6E9-A413-490A-9197-6671F1251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AEA-D7EE-42ED-990F-ADE2F06DB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lded Corner 9"/>
          <p:cNvSpPr/>
          <p:nvPr/>
        </p:nvSpPr>
        <p:spPr>
          <a:xfrm>
            <a:off x="762120" y="1066680"/>
            <a:ext cx="7543800" cy="83844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0253f"/>
                </a:solidFill>
                <a:uFillTx/>
                <a:latin typeface="Calibri"/>
              </a:rPr>
              <a:t>Data Management Planning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Plan, in advance, how you will preserve, document and distribute you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lded Corner 10"/>
          <p:cNvSpPr/>
          <p:nvPr/>
        </p:nvSpPr>
        <p:spPr>
          <a:xfrm>
            <a:off x="228600" y="2362320"/>
            <a:ext cx="1828800" cy="160020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Archiv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What to archive, how to submit to arch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lded Corner 12"/>
          <p:cNvSpPr/>
          <p:nvPr/>
        </p:nvSpPr>
        <p:spPr>
          <a:xfrm>
            <a:off x="4495680" y="2819520"/>
            <a:ext cx="1752840" cy="2016000"/>
          </a:xfrm>
          <a:prstGeom prst="foldedCorner">
            <a:avLst>
              <a:gd name="adj" fmla="val 16666"/>
            </a:avLst>
          </a:prstGeom>
          <a:solidFill>
            <a:srgbClr val="ddd9c3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Access &amp;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What on-line services to use so your data can be found and retr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lded Corner 13"/>
          <p:cNvSpPr/>
          <p:nvPr/>
        </p:nvSpPr>
        <p:spPr>
          <a:xfrm>
            <a:off x="3200400" y="4952880"/>
            <a:ext cx="1828800" cy="1828800"/>
          </a:xfrm>
          <a:prstGeom prst="foldedCorner">
            <a:avLst>
              <a:gd name="adj" fmla="val 16666"/>
            </a:avLst>
          </a:prstGeom>
          <a:solidFill>
            <a:srgbClr val="ddd9c3"/>
          </a:solidFill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C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Use unique identifiers to allow data to be referenced and tra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lded Corner 14"/>
          <p:cNvSpPr/>
          <p:nvPr/>
        </p:nvSpPr>
        <p:spPr>
          <a:xfrm>
            <a:off x="6934320" y="2403360"/>
            <a:ext cx="1828800" cy="186372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Sharing by NOAA Gran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State how you will share data, and share within 2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lded Corner 11"/>
          <p:cNvSpPr/>
          <p:nvPr/>
        </p:nvSpPr>
        <p:spPr>
          <a:xfrm>
            <a:off x="2209680" y="2819520"/>
            <a:ext cx="1828800" cy="1981080"/>
          </a:xfrm>
          <a:prstGeom prst="foldedCorner">
            <a:avLst>
              <a:gd name="adj" fmla="val 16666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253f"/>
                </a:solidFill>
                <a:uFillTx/>
                <a:latin typeface="Calibri"/>
              </a:rPr>
              <a:t>Data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0253f"/>
                </a:solidFill>
                <a:latin typeface="Calibri"/>
              </a:rPr>
              <a:t>How to apply ISO 19115 metadata for discovery, use &amp; understa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6"/>
          <p:cNvSpPr/>
          <p:nvPr/>
        </p:nvSpPr>
        <p:spPr>
          <a:xfrm>
            <a:off x="5658120" y="59101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n preparation, 2012-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9"/>
          <p:cNvSpPr/>
          <p:nvPr/>
        </p:nvSpPr>
        <p:spPr>
          <a:xfrm flipH="1" flipV="1">
            <a:off x="5372280" y="4835160"/>
            <a:ext cx="1604880" cy="107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20"/>
          <p:cNvSpPr/>
          <p:nvPr/>
        </p:nvSpPr>
        <p:spPr>
          <a:xfrm flipH="1" flipV="1">
            <a:off x="5029200" y="5866920"/>
            <a:ext cx="612720" cy="2113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TextBox 20" descr=""/>
          <p:cNvPicPr/>
          <p:nvPr/>
        </p:nvPicPr>
        <p:blipFill>
          <a:blip r:embed="rId1"/>
          <a:stretch/>
        </p:blipFill>
        <p:spPr>
          <a:xfrm>
            <a:off x="725400" y="-6480"/>
            <a:ext cx="5224680" cy="6870960"/>
          </a:xfrm>
          <a:prstGeom prst="rect">
            <a:avLst/>
          </a:prstGeom>
          <a:ln w="0">
            <a:noFill/>
          </a:ln>
        </p:spPr>
      </p:pic>
      <p:sp>
        <p:nvSpPr>
          <p:cNvPr id="618" name="TextBox 25"/>
          <p:cNvSpPr/>
          <p:nvPr/>
        </p:nvSpPr>
        <p:spPr>
          <a:xfrm>
            <a:off x="1600200" y="4627440"/>
            <a:ext cx="4191120" cy="21942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23"/>
          <p:cNvSpPr/>
          <p:nvPr/>
        </p:nvSpPr>
        <p:spPr>
          <a:xfrm>
            <a:off x="1600200" y="1603440"/>
            <a:ext cx="4191120" cy="2971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a452a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a452a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a452a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1"/>
          <p:cNvSpPr/>
          <p:nvPr/>
        </p:nvSpPr>
        <p:spPr>
          <a:xfrm>
            <a:off x="1600200" y="19080"/>
            <a:ext cx="4170240" cy="1523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Plann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a452a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111480" y="1623600"/>
            <a:ext cx="2362320" cy="2925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ll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Quality Con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talog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ser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wardsh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sage Trac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inal Dis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tent Placeholder 4"/>
          <p:cNvSpPr/>
          <p:nvPr/>
        </p:nvSpPr>
        <p:spPr>
          <a:xfrm>
            <a:off x="3111480" y="31680"/>
            <a:ext cx="2362320" cy="1462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ate Placeholder 8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DCF4-2968-4265-A3F9-FAD39D509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9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FBC1-24E2-463E-B62B-1DCDF4C29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0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lded Corner 11"/>
          <p:cNvSpPr/>
          <p:nvPr/>
        </p:nvSpPr>
        <p:spPr>
          <a:xfrm>
            <a:off x="6472800" y="2299680"/>
            <a:ext cx="189720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lded Corner 12"/>
          <p:cNvSpPr/>
          <p:nvPr/>
        </p:nvSpPr>
        <p:spPr>
          <a:xfrm>
            <a:off x="6799680" y="851760"/>
            <a:ext cx="124344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M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lded Corner 13"/>
          <p:cNvSpPr/>
          <p:nvPr/>
        </p:nvSpPr>
        <p:spPr>
          <a:xfrm>
            <a:off x="6333480" y="3202920"/>
            <a:ext cx="214092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Sharing by Gran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lded Corner 14"/>
          <p:cNvSpPr/>
          <p:nvPr/>
        </p:nvSpPr>
        <p:spPr>
          <a:xfrm>
            <a:off x="6649560" y="3987000"/>
            <a:ext cx="1543680" cy="288720"/>
          </a:xfrm>
          <a:prstGeom prst="foldedCorner">
            <a:avLst>
              <a:gd name="adj" fmla="val 16666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hat-to-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6"/>
          <p:cNvSpPr/>
          <p:nvPr/>
        </p:nvSpPr>
        <p:spPr>
          <a:xfrm flipH="1" flipV="1">
            <a:off x="4724280" y="533160"/>
            <a:ext cx="2067120" cy="461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7"/>
          <p:cNvSpPr/>
          <p:nvPr/>
        </p:nvSpPr>
        <p:spPr>
          <a:xfrm flipH="1">
            <a:off x="4968720" y="2443320"/>
            <a:ext cx="1492560" cy="223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18"/>
          <p:cNvSpPr/>
          <p:nvPr/>
        </p:nvSpPr>
        <p:spPr>
          <a:xfrm flipH="1" flipV="1">
            <a:off x="4935600" y="3276720"/>
            <a:ext cx="1387440" cy="71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9"/>
          <p:cNvSpPr/>
          <p:nvPr/>
        </p:nvSpPr>
        <p:spPr>
          <a:xfrm flipH="1" flipV="1">
            <a:off x="4892400" y="3581280"/>
            <a:ext cx="1747800" cy="549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20"/>
          <p:cNvSpPr/>
          <p:nvPr/>
        </p:nvSpPr>
        <p:spPr>
          <a:xfrm flipH="1">
            <a:off x="5638680" y="995400"/>
            <a:ext cx="1152720" cy="757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31"/>
          <p:cNvSpPr/>
          <p:nvPr/>
        </p:nvSpPr>
        <p:spPr>
          <a:xfrm flipH="1">
            <a:off x="5029200" y="4130640"/>
            <a:ext cx="161136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lded Corner 34"/>
          <p:cNvSpPr/>
          <p:nvPr/>
        </p:nvSpPr>
        <p:spPr>
          <a:xfrm>
            <a:off x="6482520" y="2756880"/>
            <a:ext cx="1910880" cy="288720"/>
          </a:xfrm>
          <a:prstGeom prst="foldedCorner">
            <a:avLst>
              <a:gd name="adj" fmla="val 16666"/>
            </a:avLst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iscovery and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lded Corner 35"/>
          <p:cNvSpPr/>
          <p:nvPr/>
        </p:nvSpPr>
        <p:spPr>
          <a:xfrm>
            <a:off x="6801120" y="5957280"/>
            <a:ext cx="1272240" cy="288720"/>
          </a:xfrm>
          <a:prstGeom prst="foldedCorner">
            <a:avLst>
              <a:gd name="adj" fmla="val 16666"/>
            </a:avLst>
          </a:prstGeom>
          <a:noFill/>
          <a:ln w="1260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ata 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36"/>
          <p:cNvSpPr/>
          <p:nvPr/>
        </p:nvSpPr>
        <p:spPr>
          <a:xfrm flipH="1">
            <a:off x="4800240" y="2900520"/>
            <a:ext cx="1671480" cy="712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27"/>
          <p:cNvSpPr/>
          <p:nvPr/>
        </p:nvSpPr>
        <p:spPr>
          <a:xfrm flipH="1">
            <a:off x="4876560" y="2900520"/>
            <a:ext cx="1595160" cy="299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ontent Placeholder 4"/>
          <p:cNvSpPr/>
          <p:nvPr/>
        </p:nvSpPr>
        <p:spPr>
          <a:xfrm>
            <a:off x="3111480" y="4664160"/>
            <a:ext cx="2362320" cy="21747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duc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p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39"/>
          <p:cNvSpPr/>
          <p:nvPr/>
        </p:nvSpPr>
        <p:spPr>
          <a:xfrm flipH="1">
            <a:off x="4724280" y="6100920"/>
            <a:ext cx="2068560" cy="147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32160" y="5688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pplicability of EDMC Directives to Data Life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Management Planning Procedural Dir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s managers of all data production projects and systems to write data management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observing systems, projects, programs, surveys, collections, interviews, investigations, studies, and resear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 is to be written before starting data acquisi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 is to be followed and maintained throughout data lifecyc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tains a template with questions to be addressed by data production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mplate will be available as Google Form on NOAA U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AA UMS will serve as repository for DM Pla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isting plans can be referenced &amp; summariz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rge investments will have DM Plan reviewed by NOAA IT Review Bo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4521-9B34-4A93-BC2A-4063C04B8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B1D-563F-44A9-AD83-29D62F094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dure for Scientific Records Appraisal and Archive Appro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es process used to identify and appraise scientific records for NOAA archiv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pplies to accepting, rejecting , retaining or disposing of scientific reco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vers observations, derived products, and environmental forecasts, warnings and advisor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vides guidance regarding relevant attributes of data, formal approvals, external review, and public com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es relevant ter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4A41-A021-4AFD-AD27-3A8A81227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C61F-BB42-4093-BCDC-B35AA1576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Documentation Procedural Dir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s documentation of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NOAA data collections, and products derived from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s that provide NOAA data and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collections and derived products funded by NOA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active and planned data collection or product generation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es metadata content standard (ISO 19115) and representation standard (ISO 19139 XM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plains types and uses of metadata and other docu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es roles &amp; responsi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Date Placeholder 3"/>
          <p:cNvSpPr/>
          <p:nvPr/>
        </p:nvSpPr>
        <p:spPr>
          <a:xfrm>
            <a:off x="8947800" y="5257800"/>
            <a:ext cx="18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CE1-C073-4CB1-9953-2D9A48C4B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8935920" y="1933560"/>
            <a:ext cx="182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eff.deLaBeaujardiere@noa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8705520" y="665928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A20-62C8-424A-9473-B86F3599C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4:41:19Z</dcterms:created>
  <dc:creator>Jeff de La Beaujardiere</dc:creator>
  <dc:description/>
  <dc:language>en-US</dc:language>
  <cp:lastModifiedBy>Adam Steckel</cp:lastModifiedBy>
  <dcterms:modified xsi:type="dcterms:W3CDTF">2012-03-16T18:26:33Z</dcterms:modified>
  <cp:revision>266</cp:revision>
  <dc:subject>Summary of content and rationale of EDMC PDs</dc:subject>
  <dc:title>EDMC Procedural Directives</dc:title>
</cp:coreProperties>
</file>